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0454-EF12-497E-9490-A1EF6F856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40D6-94D9-44BB-8EB5-7B3B0CA618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9144-2324-4282-9AE2-3384F5A3EE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A8B4-0F3A-4F4D-A9DB-F21BD7B832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E5FF-40A1-4520-9BAD-2C3E09CEE9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CA91-9819-491B-99C0-E8D8F350A9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6237-4CF0-49BE-8C46-B80266350F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C22-DC81-47FC-A22C-E5EAF9E4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EFD-5041-4C6B-A282-13DD904D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F560-819C-4B7B-930B-8DE339D8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B8E7-BA54-4028-B4C0-640A5116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08E8-0325-4234-8AED-135E1FF8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ADB5-916F-47F7-9596-3362EDFF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E4BC0-349F-4DAF-A259-DA8DFC29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438A-B123-4C58-BD2B-0360835D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8AAF-33B7-4698-9D0A-B1C981EA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83BA-94B1-45A4-9C6A-DF8BC7FC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8422-7BF5-4A7E-9BC3-54BB7AF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A17-8B2A-448D-A801-519F550E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BB47-DC70-4BC2-A78A-5A2F2A2D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3D59-9671-4CF0-9BC3-F346C1D6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8CB8-4437-44B3-94B5-2AA6FDA6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6C53-811B-4132-B264-F77EEF79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FAA0-B1ED-46D8-A5C6-02F68794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89F-5307-4542-A86E-6FA58977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668-8EE0-4246-8633-739ED360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CBE5-A47F-4FDD-81DD-9CF8642E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572-957D-483A-97B0-203BE3B9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6803-CB0B-4414-BFEF-33F80757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58C3-950A-4EB7-91B0-2180E47D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DC6-CAA3-4C6B-949D-8BE2B45F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BA50-D29D-427C-88F4-DA82F2C11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EDDA-CC51-419F-BC2F-A421F53D8A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LEGISLATIVE BRANC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How many members are in the House of Representativ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629080" y="2743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85760"/>
            <a:ext cx="91440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at is the term for a member of the House of Representativ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1828800" y="2805120"/>
            <a:ext cx="485928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573732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at District is Oak Ridge i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0" y="3002040"/>
            <a:ext cx="919800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185760"/>
            <a:ext cx="91440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o is YOUR representative in the House of Representativ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3013200" y="1981080"/>
            <a:ext cx="3117600" cy="469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is the job of the Party WHIP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3"/>
          <a:stretch/>
        </p:blipFill>
        <p:spPr>
          <a:xfrm>
            <a:off x="2209680" y="1905120"/>
            <a:ext cx="4195800" cy="41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28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ONUS: What position is next in line for the Presidency AFTER the speaker of the Hous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2819520" y="3084480"/>
            <a:ext cx="3314520" cy="37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26T16:43:44Z</dcterms:modified>
  <cp:revision>128</cp:revision>
  <dc:subject/>
  <dc:title>D/O: TO EXPLAIN AND IDENTIFY PROBLEMS OF ECONOMICS</dc:title>
</cp:coreProperties>
</file>